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BBF-D9BB-4A5A-8B6F-E60FEB1D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873-9654-4835-B835-E22A5B1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EE4-0213-4D15-8E0D-7D321E76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E04-4F9F-4D6C-BE35-F1B1F330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192-EEB7-4E6E-81F4-7EF3C2D7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F45-CBD2-44B3-840D-6307464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F1E-DB9F-40C8-AA0C-50246CD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6D6-44A6-4459-85CC-323DD731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5B-273A-4FAC-80CF-D14F2218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F60-3F79-4B81-8AB2-90FAD31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D82-3659-470B-884A-0A2EAEF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FDB-5F46-4021-8E58-70AF541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36F1-4276-431E-8943-0B8F49A5D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21.xml"/><Relationship Id="rId26" Type="http://schemas.openxmlformats.org/officeDocument/2006/relationships/slide" Target="slide21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29.xml"/><Relationship Id="rId36" Type="http://schemas.openxmlformats.org/officeDocument/2006/relationships/slide" Target="slide29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ank you for playing Jeopardy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mail Mrs. Row with any questions or comments!</a:t>
            </a:r>
            <a:br>
              <a:rPr sz="36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heck with your teacher firs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Alma Row</cp:lastModifiedBy>
  <dcterms:modified xsi:type="dcterms:W3CDTF">2004-09-25T16:49:07Z</dcterms:modified>
  <cp:revision>15</cp:revision>
  <dc:subject/>
  <dc:title>PowerPoint Presentation</dc:title>
</cp:coreProperties>
</file>